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660-487B-499B-B45C-095B9F52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791F-F985-466A-A697-461209FF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9B85-5B7A-4E18-8BFB-308B9CB3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C623-255F-45F9-90E2-7195D91C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7FF-49A6-48FE-97AF-1AFC4103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55B-D02F-4886-BE9B-F7BA9894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FC60-D6BD-43A5-9B83-340FB3E7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C7A9-1594-4F3D-B5DE-D755DAB9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AC97-FAA8-4512-9A37-C088BFB2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E2FA-5AFA-4CAB-AE8B-E3C67C7D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381-970B-41DF-8D6A-A0571840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81D2-B0BF-4746-B8C2-FE1420CB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2483-0F5D-41E5-BFDA-FB1441D85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~PP2623.WAV" TargetMode="External"/><Relationship Id="rId3" Type="http://schemas.microsoft.com/office/2007/relationships/media" Target="file:///tmp/home/.config/libreoffice/4/user/gallery/~PP2623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file:///tmp/home/.config/libreoffice/4/user/gallery/~PP1902.WAV" TargetMode="External"/><Relationship Id="rId3" Type="http://schemas.microsoft.com/office/2007/relationships/media" Target="file:///tmp/home/.config/libreoffice/4/user/gallery/~PP1902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file:///tmp/home/.config/libreoffice/4/user/gallery/~PP1056.WAV" TargetMode="External"/><Relationship Id="rId3" Type="http://schemas.microsoft.com/office/2007/relationships/media" Target="file:///tmp/home/.config/libreoffice/4/user/gallery/~PP1056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file:///tmp/home/.config/libreoffice/4/user/gallery/~PP131.WAV" TargetMode="External"/><Relationship Id="rId3" Type="http://schemas.microsoft.com/office/2007/relationships/media" Target="file:///tmp/home/.config/libreoffice/4/user/gallery/~PP131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file:///tmp/home/.config/libreoffice/4/user/gallery/~PP3256.WAV" TargetMode="External"/><Relationship Id="rId3" Type="http://schemas.microsoft.com/office/2007/relationships/media" Target="file:///tmp/home/.config/libreoffice/4/user/gallery/~PP3256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file:///tmp/home/.config/libreoffice/4/user/gallery/~PP3410.WAV" TargetMode="External"/><Relationship Id="rId3" Type="http://schemas.microsoft.com/office/2007/relationships/media" Target="file:///tmp/home/.config/libreoffice/4/user/gallery/~PP3410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file:///tmp/home/.config/libreoffice/4/user/gallery/~PP2018.WAV" TargetMode="External"/><Relationship Id="rId3" Type="http://schemas.microsoft.com/office/2007/relationships/media" Target="file:///tmp/home/.config/libreoffice/4/user/gallery/~PP2018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~PP1761.WAV" TargetMode="External"/><Relationship Id="rId3" Type="http://schemas.microsoft.com/office/2007/relationships/media" Target="file:///tmp/home/.config/libreoffice/4/user/gallery/~PP1761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file:///tmp/home/.config/libreoffice/4/user/gallery/~PP1243.WAV" TargetMode="External"/><Relationship Id="rId3" Type="http://schemas.microsoft.com/office/2007/relationships/media" Target="file:///tmp/home/.config/libreoffice/4/user/gallery/~PP1243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file:///tmp/home/.config/libreoffice/4/user/gallery/~PP366.WAV" TargetMode="External"/><Relationship Id="rId3" Type="http://schemas.microsoft.com/office/2007/relationships/media" Target="file:///tmp/home/.config/libreoffice/4/user/gallery/~PP366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file:///tmp/home/.config/libreoffice/4/user/gallery/~PP4022.WAV" TargetMode="External"/><Relationship Id="rId3" Type="http://schemas.microsoft.com/office/2007/relationships/media" Target="file:///tmp/home/.config/libreoffice/4/user/gallery/~PP4022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file:///tmp/home/.config/libreoffice/4/user/gallery/~PP3973.WAV" TargetMode="External"/><Relationship Id="rId3" Type="http://schemas.microsoft.com/office/2007/relationships/media" Target="file:///tmp/home/.config/libreoffice/4/user/gallery/~PP3973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file:///tmp/home/.config/libreoffice/4/user/gallery/~PP156.WAV" TargetMode="External"/><Relationship Id="rId3" Type="http://schemas.microsoft.com/office/2007/relationships/media" Target="file:///tmp/home/.config/libreoffice/4/user/gallery/~PP156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file:///tmp/home/.config/libreoffice/4/user/gallery/~PP3031.WAV" TargetMode="External"/><Relationship Id="rId3" Type="http://schemas.microsoft.com/office/2007/relationships/media" Target="file:///tmp/home/.config/libreoffice/4/user/gallery/~PP3031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file:///tmp/home/.config/libreoffice/4/user/gallery/~PP2591.WAV" TargetMode="External"/><Relationship Id="rId3" Type="http://schemas.microsoft.com/office/2007/relationships/media" Target="file:///tmp/home/.config/libreoffice/4/user/gallery/~PP2591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ne Italien Fer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ie (Kayleigh) Ruffo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dem Weingarten geseh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715000" cy="3800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1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die Brunnen geseh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338880" cy="4218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4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viele Hunde geseh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195880" cy="3911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7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meine Familie besuc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043600" cy="3778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0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alien hat mir sehr gut gefall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3714480" cy="3714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3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sollst Italien besuch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886280" cy="3281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6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n Ital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4191120" cy="5234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ohne in eine Private Hau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569960"/>
            <a:ext cx="7238880" cy="4351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Fussball gespiel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5862600" cy="4024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in Macerata gewohn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119560" cy="3835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bin an Mediterranean geschomm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172200" cy="4624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9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in eine Vespa gefahr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043600" cy="3778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2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Pizza gegess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267440" cy="4267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5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Musik gespiel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4705560" cy="4021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8:10:38Z</dcterms:created>
  <dc:creator>CUSD220</dc:creator>
  <dc:description/>
  <dc:language>en-US</dc:language>
  <cp:lastModifiedBy>CUSD220</cp:lastModifiedBy>
  <dcterms:modified xsi:type="dcterms:W3CDTF">2011-11-15T18:29:52Z</dcterms:modified>
  <cp:revision>3</cp:revision>
  <dc:subject/>
  <dc:title>Meine Italien Ferien</dc:title>
</cp:coreProperties>
</file>